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C12-645C-4594-A6D7-8CEBD13B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09B-1541-4D13-830D-702C29D3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577-CA47-42C4-8EAE-1822E770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A6A-AEC3-45B0-AE76-5E5D3F1B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C4A2-9A38-4DCF-B272-5B652C0E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249-23C0-4EEB-B76D-5F0AE7FD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3486-646C-4991-BC3C-EC059B1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BC3-7DA6-4BF5-A540-BA1959B6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BB29-F102-4702-A64A-2D9BBAE4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93F-7A10-415F-96B5-206E002D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1397-8A94-4BD9-8D7B-ABE71C16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294-5368-4667-9E2A-B733027D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8E9B-6283-412A-A464-5B42797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EE5F-B681-4395-B2EC-110D786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53AF-485F-4727-8D84-F04A8AD7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ABD8-B5C1-4A9B-BAE8-DA6057BF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E16-5928-4979-A3C4-60E11008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281E-F7CD-458F-90B6-5228EB44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CD9C-4F9E-4D54-A493-F67D5A25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6B87-AF88-4ED3-B797-964E782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A8D9-06C5-4085-9D6F-EF63478B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0F1C-E2E5-4615-9FC2-CD80D5C2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DA5-F1CD-4E55-8C4E-FDC6481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3407-A55F-4631-8054-98798BE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092A-4C10-4567-999B-A8A6A12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6292-7138-4CCE-92C6-DC58D63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C452-5106-4D03-96A0-7F92695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704F-7B4E-4850-B5AC-5CCE22C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E19C-80C9-4C36-B85B-7D361C84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56F9-0CA8-4054-9920-F013EF8B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1C87-7410-4664-A7B1-0CF27B17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A3C1-6BE5-400A-A814-57ED6E0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9511-B88F-4647-A817-8179280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2AC-E460-493D-9548-03464109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CF94-946D-4F46-9657-6FC50B8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85E8-7B39-405A-A4CB-D492746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8D09-36CE-4B2E-92F4-EA4F5ED5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272C-A37B-4A29-99C9-9802EF4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ACA6-5CB1-43DC-87F9-23A854C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44C3-092C-4996-86BE-0FC2A9A1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74E1-646F-43FE-B0D3-74E0C99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F003-D232-4FCA-A48A-D60A0C91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79A2-DC72-4250-8314-17E68FCB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9C18-3ECC-4A80-B3D4-34E9A980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BF5-30A6-4148-A84B-66F4900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ED6B-5D15-497C-A2A9-3588CEB8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B2375-F290-4FB9-B212-18C12E8B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0CFA-9C1B-4D13-B085-3CAD30F9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6490-3099-4828-A2A6-353490BA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F037-C126-47C0-9EB4-407E5111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1B14-F50B-4CAD-92B3-C5B4FB1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534B-D549-43B2-B2C1-5AF91EE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1DA2C-7ED2-41D6-8C24-CC73E9BF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70E9-E454-40F5-8252-3AB327DF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3A15-AA2E-4082-978E-066F99DB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27D-E6E5-4EAA-A091-9D5C100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2BC36-4B3C-4238-9E82-BBDD7973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EB8-7ADA-4D04-A797-5E223521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DED-5469-491E-8A22-19DE658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01E-9D7B-413C-8081-BE4E9CF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5F08-4621-4D4D-9160-4E75C1C25FB0}" type="slidenum"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769-5E08-492B-88DA-5AA10E3EC0D8}" type="slidenum"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5C9B-6880-463E-9036-6756D5D7413F}" type="slidenum"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1D67-24C5-4285-ABBE-EDD0F64F6C20}" type="slidenum"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D75-BB14-4CAC-9601-B34E59DB2FF1}" type="slidenum">
              <a:rPr b="0" lang="ko-K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North Korea Threatens Nuclear Test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Nick Y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The interior of a cooling tower at Yongbyon (image from February 2008)"/>
          <p:cNvPicPr/>
          <p:nvPr/>
        </p:nvPicPr>
        <p:blipFill>
          <a:blip r:embed="rId1"/>
          <a:stretch/>
        </p:blipFill>
        <p:spPr>
          <a:xfrm>
            <a:off x="3571920" y="3714840"/>
            <a:ext cx="2152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ed N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at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 has threatened to carry out nuclear missile tests unless the UN Security Council apologizes for its condemnation of a recent rocket launch on April 5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ed Nations Headquar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en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 missile laun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 threatens nuclear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Y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found this news interesting because this gives the world more reason to ridicule North Kore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 is continuing to make unreasonable and pointless a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ow it Relat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ing World War I and II came reparations. This shows nations always demand things from a state of power, and other nations will most likely falter and apologize for their actions regardless of how silly the issue i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How I fel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ontinue to feel that North Korea is being ruled by a first-grad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th Korea has committed so many ridiculous actions that it has put itself in a state where other nation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permitted to accuse North Korea for aggressive 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ountries should have the right to accuse North Korea because for anything, it could have been a missi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ibliograph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news.bbc.co.uk/1/hi/world/asia-pacific/8024235.s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2:46:43Z</dcterms:created>
  <dc:creator>Very Infortant Person</dc:creator>
  <dc:description/>
  <dc:language>en-US</dc:language>
  <cp:lastModifiedBy>Very Infortant Person</cp:lastModifiedBy>
  <dcterms:modified xsi:type="dcterms:W3CDTF">2009-04-30T15:54:15Z</dcterms:modified>
  <cp:revision>4</cp:revision>
  <dc:subject/>
  <dc:title>North Korea Threatens Nuclear Tests</dc:title>
</cp:coreProperties>
</file>